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7421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42800" cy="9856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743880" cy="985680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570">
                <a:moveTo>
                  <a:pt x="5" y="0"/>
                </a:moveTo>
                <a:arcTo wR="5" hR="5" stAng="16200000" swAng="-5400000"/>
                <a:lnTo>
                  <a:pt x="0" y="31565"/>
                </a:lnTo>
                <a:arcTo wR="5" hR="5" stAng="10800000" swAng="-5400000"/>
                <a:lnTo>
                  <a:pt x="21595" y="3157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743880" cy="985680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570">
                <a:moveTo>
                  <a:pt x="5" y="0"/>
                </a:moveTo>
                <a:arcTo wR="5" hR="5" stAng="16200000" swAng="-5400000"/>
                <a:lnTo>
                  <a:pt x="0" y="31565"/>
                </a:lnTo>
                <a:arcTo wR="5" hR="5" stAng="10800000" swAng="-5400000"/>
                <a:lnTo>
                  <a:pt x="21595" y="3157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81924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07560" y="739440"/>
            <a:ext cx="4924440" cy="369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136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-360" y="9361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819240" y="9361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DB447-85EF-4EEA-9DC6-D7D12A951848}" type="slidenum"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90792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28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81960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9244FA-27DF-4414-8190-C3F5CAB61F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1960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21040" y="936000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69513D-02A4-4BE6-9D8A-F01B1C16C6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21040" y="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21040" y="936000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06BEFD-DBA7-485B-8D76-BFC8C42DA2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21040" y="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85680" y="749160"/>
            <a:ext cx="4772160" cy="369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28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1960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C26DBF-9D79-4874-9471-8490851B5F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1960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21040" y="936000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12F89D-5181-40EB-AFC0-79BF442F02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21040" y="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21040" y="936000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58234-DF40-4FDC-ADC3-59ECFDD7F3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21040" y="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85680" y="749160"/>
            <a:ext cx="4772160" cy="369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28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81960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EE3DD-0805-4F69-9385-B8AD184BC0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1960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1960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A1E8FC-1B02-4F2F-8C36-D461B834BD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1960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85680" y="749160"/>
            <a:ext cx="4770720" cy="369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28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81960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B9102E-1A7B-44A0-9AB3-63F628C91A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1960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21040" y="936000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6FDABD-5164-4AA2-8D82-71CBA347AF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21040" y="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21040" y="936000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A6023B-40ED-4FC8-86E4-579BC1A91D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21040" y="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985680" y="749160"/>
            <a:ext cx="4772160" cy="369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28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81960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C47AD9-33DB-4370-A6C5-E49CC0678E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1960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1960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59106B-0275-4DEA-9F77-B2AC45ED9A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1960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81960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25596B-4522-462D-9FA7-2A62531836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81960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985680" y="749160"/>
            <a:ext cx="4772160" cy="369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28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81960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996524-EE14-4D9C-8F08-5B043B898D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1960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1960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7F7F29-8CBD-4592-B8B8-ED4DEFD68D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81960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1960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861C1F-679E-4899-AC4B-C4ABA2464D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1960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85680" y="749160"/>
            <a:ext cx="4772160" cy="369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28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81960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E172A2-4463-4C5C-A6AD-8C795519A6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1960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1960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8A7666-B74A-4528-B293-716D85AC6A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81960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81960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477FE2-3F60-4D52-A355-2F77129D2D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81960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85680" y="749160"/>
            <a:ext cx="4772160" cy="369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28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81960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6B5236-616F-468A-BE15-0AA89A4565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81960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821040" y="936000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BE34F4-42DA-47A7-A553-409E2569AF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21040" y="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821040" y="936000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6E0963-3ACA-4753-8086-F55930B7CD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821040" y="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85680" y="749160"/>
            <a:ext cx="4772160" cy="369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28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1960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9B360F-80AE-40A5-9F8D-A16740F8CB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1960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07920" y="739800"/>
            <a:ext cx="49294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28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1960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B69EA8-0A7B-4F7E-BDF3-9E3754E0F5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1960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21040" y="936000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46F9ED-3908-407E-B1BD-89B2B77645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21040" y="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23920" y="739800"/>
            <a:ext cx="44974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28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1960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59CA78-53D1-4109-9825-AD6E401F75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1960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21040" y="936000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F5F8A4-9430-4DE3-9F02-A1832426DA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21040" y="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23920" y="739800"/>
            <a:ext cx="44974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28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90792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28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81960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F80D9A-F717-48CE-B315-A4B7BD0A0F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1960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1960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221011-2738-41F9-8936-6EB1CA9E3C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1960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85680" y="749160"/>
            <a:ext cx="4770720" cy="369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28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1960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0466B2-8BE6-479B-9FC6-A5F6E4EA9C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1960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1960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2C378-0FDA-4CF6-83CE-BD5ADDC589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1960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85680" y="749160"/>
            <a:ext cx="4770720" cy="369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28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81960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8A1BC5-7E39-41DA-80D3-6A62981EC3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1960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21040" y="936000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77F855-BD95-4C25-905F-692CBC4910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21040" y="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21040" y="936000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EBAE94-50E5-40C3-9295-8E98429259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21040" y="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85680" y="749160"/>
            <a:ext cx="4772160" cy="369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28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81960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79AA11-73BD-4B36-BB50-2ADC673301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1960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21040" y="936000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530315-DF78-470F-A426-C59A70FFDE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21040" y="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21040" y="936000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E8AEF9-909A-4483-93D6-5D14559409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21040" y="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85680" y="749160"/>
            <a:ext cx="4772160" cy="369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28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0032-8048-4467-8711-72F24D6FB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263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47680"/>
            <a:ext cx="82263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10B1-E3A9-4B7D-9B7C-87797698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143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440" y="1142640"/>
            <a:ext cx="40143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47680"/>
            <a:ext cx="40143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440" y="3847680"/>
            <a:ext cx="40143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3C08-35ED-4D84-A4C5-B784136EB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264852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142640"/>
            <a:ext cx="264852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9560" y="1142640"/>
            <a:ext cx="264852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47680"/>
            <a:ext cx="264852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847680"/>
            <a:ext cx="264852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9560" y="3847680"/>
            <a:ext cx="264852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3471-AD51-4692-BE9D-AB6A051B4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2640"/>
            <a:ext cx="82263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263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143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2440" y="1142640"/>
            <a:ext cx="40143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143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2440" y="1142640"/>
            <a:ext cx="40143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847680"/>
            <a:ext cx="40143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142640"/>
            <a:ext cx="82263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62C8-D173-4A70-A5FD-42697745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143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440" y="1142640"/>
            <a:ext cx="40143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2440" y="3847680"/>
            <a:ext cx="40143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143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440" y="1142640"/>
            <a:ext cx="40143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847680"/>
            <a:ext cx="82263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263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847680"/>
            <a:ext cx="82263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143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2440" y="1142640"/>
            <a:ext cx="40143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847680"/>
            <a:ext cx="40143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2440" y="3847680"/>
            <a:ext cx="40143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264852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8200" y="1142640"/>
            <a:ext cx="264852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9560" y="1142640"/>
            <a:ext cx="264852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847680"/>
            <a:ext cx="264852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8200" y="3847680"/>
            <a:ext cx="264852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9560" y="3847680"/>
            <a:ext cx="264852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263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CB21-6869-47A1-A366-8EDD20A8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143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440" y="1142640"/>
            <a:ext cx="40143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831A-12BE-4263-A1B8-6688BF6E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FDF7-89AE-4037-B134-32ABE3E7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E52E-54A6-44C7-8D64-47343614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143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142640"/>
            <a:ext cx="40143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47680"/>
            <a:ext cx="40143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672F-7533-4472-A60C-3F49DEEE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143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142640"/>
            <a:ext cx="40143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440" y="3847680"/>
            <a:ext cx="40143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EEBA-B503-4C48-81A6-8C15AF1F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143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142640"/>
            <a:ext cx="40143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47680"/>
            <a:ext cx="82263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4E3B-771E-49CB-8DAC-91046414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142640"/>
            <a:ext cx="82263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2120" indent="-2221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527520"/>
            <a:ext cx="113976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76160" y="6527520"/>
            <a:ext cx="456876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880"/>
            <a:ext cx="9115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Slide #: </a:t>
            </a:r>
            <a:fld id="{B08C2A89-602E-47E5-8B42-F98C9B359569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218960"/>
            <a:ext cx="7769160" cy="19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3600" cy="1722240"/>
            <a:chOff x="228600" y="5000760"/>
            <a:chExt cx="8913600" cy="17222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5480" y="5051160"/>
              <a:ext cx="5256720" cy="165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160" cy="1722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2120" indent="-2221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 Board Meeting</a:t>
            </a:r>
            <a:br>
              <a:rPr sz="4000"/>
            </a:b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anuary 30, 2008 @ Utrecht, The Netherland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A2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aco Col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3920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 SA2 Achievement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2120" indent="0">
              <a:lnSpc>
                <a:spcPct val="9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9)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NA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nected at 100 Mbps; test pen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ports good spending profile (financial data submission pend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9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9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0)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MC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run conn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w spending (will claim 19.5 k€ out of 25 k€ EC gra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9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9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1)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O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nected at 10 Gb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w spending profile (will claim 5 k€ out of 30 k€ EC gra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2)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hanghai connected and tests performed. But involved in space miss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rumqi will connect in 2009, but maybe out of EXPReS timefra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 current plans to connect Mijun and Kumming (now at 34 Mb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SA2: Network Provisioning for a Global e-VLBI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Board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1426-3BF9-47CA-B2D4-DF067FA251D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uary 30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3920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 SA2 Achievement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2120" indent="0">
              <a:lnSpc>
                <a:spcPct val="9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9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3)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TI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ernational connection difficult. Tests pen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500 Mbps operation may need extra EXPReS money (but matching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9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9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4)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Uni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nected at 1 Gbps; soon at 10 Gb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quipment charged to JRA1, not SA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ill be able to claim full EC gra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9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9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5)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VIR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nection through Stockholm being tes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ood spending profile; may benefit of extra EC supp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hould demonstrate astronomical operation within EXPReS timefra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98000"/>
              </a:lnSpc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SA2: Network Provisioning for a Global e-VLBI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Board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7F0D-9852-41DA-B4A6-4E0BD9011CD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uary 3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442440"/>
            <a:ext cx="82342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Financial statu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SA2: Network Provisioning for a Global e-VLBI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6191280" cy="506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Board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BBDF-90DF-4FB8-A577-E66BBD104BE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uary 3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442440"/>
            <a:ext cx="82342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bout low spending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5640" y="1197000"/>
            <a:ext cx="7674120" cy="45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74760" indent="-29052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822240"/>
                <a:tab algn="l" pos="1271520"/>
                <a:tab algn="l" pos="1720800"/>
                <a:tab algn="l" pos="2170080"/>
                <a:tab algn="l" pos="2619360"/>
                <a:tab algn="l" pos="3068640"/>
                <a:tab algn="l" pos="3517920"/>
                <a:tab algn="l" pos="3967200"/>
                <a:tab algn="l" pos="4416480"/>
                <a:tab algn="l" pos="4865760"/>
                <a:tab algn="l" pos="5315040"/>
                <a:tab algn="l" pos="5764320"/>
                <a:tab algn="l" pos="6213600"/>
                <a:tab algn="l" pos="6662880"/>
                <a:tab algn="l" pos="7112160"/>
                <a:tab algn="l" pos="7561440"/>
                <a:tab algn="l" pos="8010360"/>
                <a:tab algn="l" pos="8459640"/>
                <a:tab algn="l" pos="8908920"/>
                <a:tab algn="l" pos="9358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2 EC money covers only a fraction of total cost (1: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29052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822240"/>
                <a:tab algn="l" pos="1271520"/>
                <a:tab algn="l" pos="1720800"/>
                <a:tab algn="l" pos="2170080"/>
                <a:tab algn="l" pos="2619360"/>
                <a:tab algn="l" pos="3068640"/>
                <a:tab algn="l" pos="3517920"/>
                <a:tab algn="l" pos="3967200"/>
                <a:tab algn="l" pos="4416480"/>
                <a:tab algn="l" pos="4865760"/>
                <a:tab algn="l" pos="5315040"/>
                <a:tab algn="l" pos="5764320"/>
                <a:tab algn="l" pos="6213600"/>
                <a:tab algn="l" pos="6662880"/>
                <a:tab algn="l" pos="7112160"/>
                <a:tab algn="l" pos="7561440"/>
                <a:tab algn="l" pos="8010360"/>
                <a:tab algn="l" pos="8459640"/>
                <a:tab algn="l" pos="8908920"/>
                <a:tab algn="l" pos="9358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if matching is “required”, EC may pay up to 100% of eligible costs in SAs. Hard lim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822240"/>
                <a:tab algn="l" pos="1271520"/>
                <a:tab algn="l" pos="1720800"/>
                <a:tab algn="l" pos="2170080"/>
                <a:tab algn="l" pos="2619360"/>
                <a:tab algn="l" pos="3068640"/>
                <a:tab algn="l" pos="3517920"/>
                <a:tab algn="l" pos="3967200"/>
                <a:tab algn="l" pos="4416480"/>
                <a:tab algn="l" pos="4865760"/>
                <a:tab algn="l" pos="5315040"/>
                <a:tab algn="l" pos="5764320"/>
                <a:tab algn="l" pos="6213600"/>
                <a:tab algn="l" pos="6662880"/>
                <a:tab algn="l" pos="7112160"/>
                <a:tab algn="l" pos="7561440"/>
                <a:tab algn="l" pos="8010360"/>
                <a:tab algn="l" pos="8459640"/>
                <a:tab algn="l" pos="8908920"/>
                <a:tab algn="l" pos="9358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s to be approved by the local au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822240"/>
                <a:tab algn="l" pos="1271520"/>
                <a:tab algn="l" pos="1720800"/>
                <a:tab algn="l" pos="2170080"/>
                <a:tab algn="l" pos="2619360"/>
                <a:tab algn="l" pos="3068640"/>
                <a:tab algn="l" pos="3517920"/>
                <a:tab algn="l" pos="3967200"/>
                <a:tab algn="l" pos="4416480"/>
                <a:tab algn="l" pos="4865760"/>
                <a:tab algn="l" pos="5315040"/>
                <a:tab algn="l" pos="5764320"/>
                <a:tab algn="l" pos="6213600"/>
                <a:tab algn="l" pos="6662880"/>
                <a:tab algn="l" pos="7112160"/>
                <a:tab algn="l" pos="7561440"/>
                <a:tab algn="l" pos="8010360"/>
                <a:tab algn="l" pos="8459640"/>
                <a:tab algn="l" pos="8908920"/>
                <a:tab algn="l" pos="9358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ware of depreciation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822240"/>
                <a:tab algn="l" pos="1271520"/>
                <a:tab algn="l" pos="1720800"/>
                <a:tab algn="l" pos="2170080"/>
                <a:tab algn="l" pos="2619360"/>
                <a:tab algn="l" pos="3068640"/>
                <a:tab algn="l" pos="3517920"/>
                <a:tab algn="l" pos="3967200"/>
                <a:tab algn="l" pos="4416480"/>
                <a:tab algn="l" pos="4865760"/>
                <a:tab algn="l" pos="5315040"/>
                <a:tab algn="l" pos="5764320"/>
                <a:tab algn="l" pos="6213600"/>
                <a:tab algn="l" pos="6662880"/>
                <a:tab algn="l" pos="7112160"/>
                <a:tab algn="l" pos="7561440"/>
                <a:tab algn="l" pos="8010360"/>
                <a:tab algn="l" pos="8459640"/>
                <a:tab algn="l" pos="8908920"/>
                <a:tab algn="l" pos="9358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VAT is eli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822240"/>
                <a:tab algn="l" pos="1271520"/>
                <a:tab algn="l" pos="1720800"/>
                <a:tab algn="l" pos="2170080"/>
                <a:tab algn="l" pos="2619360"/>
                <a:tab algn="l" pos="3068640"/>
                <a:tab algn="l" pos="3517920"/>
                <a:tab algn="l" pos="3967200"/>
                <a:tab algn="l" pos="4416480"/>
                <a:tab algn="l" pos="4865760"/>
                <a:tab algn="l" pos="5315040"/>
                <a:tab algn="l" pos="5764320"/>
                <a:tab algn="l" pos="6213600"/>
                <a:tab algn="l" pos="6662880"/>
                <a:tab algn="l" pos="7112160"/>
                <a:tab algn="l" pos="7561440"/>
                <a:tab algn="l" pos="8010360"/>
                <a:tab algn="l" pos="8459640"/>
                <a:tab algn="l" pos="8908920"/>
                <a:tab algn="l" pos="9358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vity (rent of services) funding limited to 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29052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822240"/>
                <a:tab algn="l" pos="1271520"/>
                <a:tab algn="l" pos="1720800"/>
                <a:tab algn="l" pos="2170080"/>
                <a:tab algn="l" pos="2619360"/>
                <a:tab algn="l" pos="3068640"/>
                <a:tab algn="l" pos="3517920"/>
                <a:tab algn="l" pos="3967200"/>
                <a:tab algn="l" pos="4416480"/>
                <a:tab algn="l" pos="4865760"/>
                <a:tab algn="l" pos="5315040"/>
                <a:tab algn="l" pos="5764320"/>
                <a:tab algn="l" pos="6213600"/>
                <a:tab algn="l" pos="6662880"/>
                <a:tab algn="l" pos="7112160"/>
                <a:tab algn="l" pos="7561440"/>
                <a:tab algn="l" pos="8010360"/>
                <a:tab algn="l" pos="8459640"/>
                <a:tab algn="l" pos="8908920"/>
                <a:tab algn="l" pos="9358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partners may not spend their allocated EC sh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822240"/>
                <a:tab algn="l" pos="1271520"/>
                <a:tab algn="l" pos="1720800"/>
                <a:tab algn="l" pos="2170080"/>
                <a:tab algn="l" pos="2619360"/>
                <a:tab algn="l" pos="3068640"/>
                <a:tab algn="l" pos="3517920"/>
                <a:tab algn="l" pos="3967200"/>
                <a:tab algn="l" pos="4416480"/>
                <a:tab algn="l" pos="4865760"/>
                <a:tab algn="l" pos="5315040"/>
                <a:tab algn="l" pos="5764320"/>
                <a:tab algn="l" pos="6213600"/>
                <a:tab algn="l" pos="6662880"/>
                <a:tab algn="l" pos="7112160"/>
                <a:tab algn="l" pos="7561440"/>
                <a:tab algn="l" pos="8010360"/>
                <a:tab algn="l" pos="8459640"/>
                <a:tab algn="l" pos="8908920"/>
                <a:tab algn="l" pos="9358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RAO, INAF, NCU, OSO, TIG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SA2: Network Provisioning for a Global e-VLBI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Board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F103-7B67-4E9B-82E9-5F51CFE285B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uary 3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442440"/>
            <a:ext cx="82342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 SA2 forecast wish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792504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crease of production network to 1 Gbps (tests done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ffelsberg will join the production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30960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ebes (CNIG-IGN) will connect @ 1 Gbps in May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RAC will demonstrate astronomica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dicina will change to shorter (48 km) dark fiber – with new equipment will allow up to 10 G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nectivity test: MRO/OSO – JBO at 10 G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nectivity test: NAIC – TIGO – JIVE at 500 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rumqi will connect in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 algn="ctr">
              <a:lnSpc>
                <a:spcPct val="95000"/>
              </a:lnSpc>
              <a:buNone/>
              <a:tabLst>
                <a:tab algn="l" pos="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LL PARTNERS are to send copies of their C-forms, Jo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 algn="ctr">
              <a:lnSpc>
                <a:spcPct val="95000"/>
              </a:lnSpc>
              <a:buNone/>
              <a:tabLst>
                <a:tab algn="l" pos="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nd audit certificates to the EXPReS Project Manager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5000"/>
              </a:lnSpc>
              <a:buNone/>
              <a:tabLst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5000"/>
              </a:lnSpc>
              <a:buNone/>
              <a:tabLst>
                <a:tab algn="l" pos="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SA2: Network Provisioning for a Global e-VLBI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Board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625E-4AE1-40BE-8F17-80A735C52EA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uary 3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46160"/>
            <a:ext cx="823428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Financial forecas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SA2: Network Provisioning for a Global e-VLBI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713800" cy="391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Board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F717-09DE-4EBA-940E-A9A48B51647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uary 3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46160"/>
            <a:ext cx="823428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Possible extension of EXPReS?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SA2: Network Provisioning for a Global e-VLBI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792504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will benefit?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85000"/>
              </a:lnSpc>
              <a:buNone/>
              <a:tabLst>
                <a:tab algn="l" pos="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) Those institutions who pay re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NIG-IG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t Ye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A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international conne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PI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85000"/>
              </a:lnSpc>
              <a:buNone/>
              <a:tabLst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85000"/>
              </a:lnSpc>
              <a:buNone/>
              <a:tabLst>
                <a:tab algn="l" pos="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) Other telescopes which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ay joi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V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AF Sardi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R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rumq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85000"/>
              </a:lnSpc>
              <a:buNone/>
              <a:tabLst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3096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 long?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xtra (rental) cost to the pro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 months = 65 k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2 months = 130 k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85000"/>
              </a:lnSpc>
              <a:buNone/>
              <a:tabLst>
                <a:tab algn="l" pos="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+ costs of connecting Sardinia &amp; Urumq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85000"/>
              </a:lnSpc>
              <a:buNone/>
              <a:tabLst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85000"/>
              </a:lnSpc>
              <a:buNone/>
              <a:tabLst>
                <a:tab algn="l" pos="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Board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ABD1-623A-4B98-9818-1DDD6849924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uary 3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442440"/>
            <a:ext cx="82342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Summary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1341360"/>
            <a:ext cx="7883280" cy="46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74760" indent="-29052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Bitstream Vera Sans"/>
              <a:buChar char="•"/>
              <a:tabLst>
                <a:tab algn="l" pos="374760"/>
                <a:tab algn="l" pos="822240"/>
                <a:tab algn="l" pos="1271520"/>
                <a:tab algn="l" pos="1720800"/>
                <a:tab algn="l" pos="2170080"/>
                <a:tab algn="l" pos="2619360"/>
                <a:tab algn="l" pos="3068640"/>
                <a:tab algn="l" pos="3517920"/>
                <a:tab algn="l" pos="3967200"/>
                <a:tab algn="l" pos="4416480"/>
                <a:tab algn="l" pos="4865760"/>
                <a:tab algn="l" pos="5315040"/>
                <a:tab algn="l" pos="5764320"/>
                <a:tab algn="l" pos="6213600"/>
                <a:tab algn="l" pos="6662880"/>
                <a:tab algn="l" pos="7112160"/>
                <a:tab algn="l" pos="7561440"/>
                <a:tab algn="l" pos="8010360"/>
                <a:tab algn="l" pos="8459640"/>
                <a:tab algn="l" pos="8908920"/>
                <a:tab algn="l" pos="9358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ajor deliverables are being pursued and achie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29052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Bitstream Vera Sans"/>
              <a:buChar char="•"/>
              <a:tabLst>
                <a:tab algn="l" pos="374760"/>
                <a:tab algn="l" pos="822240"/>
                <a:tab algn="l" pos="1271520"/>
                <a:tab algn="l" pos="1720800"/>
                <a:tab algn="l" pos="2170080"/>
                <a:tab algn="l" pos="2619360"/>
                <a:tab algn="l" pos="3068640"/>
                <a:tab algn="l" pos="3517920"/>
                <a:tab algn="l" pos="3967200"/>
                <a:tab algn="l" pos="4416480"/>
                <a:tab algn="l" pos="4865760"/>
                <a:tab algn="l" pos="5315040"/>
                <a:tab algn="l" pos="5764320"/>
                <a:tab algn="l" pos="6213600"/>
                <a:tab algn="l" pos="6662880"/>
                <a:tab algn="l" pos="7112160"/>
                <a:tab algn="l" pos="7561440"/>
                <a:tab algn="l" pos="8010360"/>
                <a:tab algn="l" pos="8459640"/>
                <a:tab algn="l" pos="8908920"/>
                <a:tab algn="l" pos="9358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ost partners have lower costs, as expe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29052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Bitstream Vera Sans"/>
              <a:buChar char="•"/>
              <a:tabLst>
                <a:tab algn="l" pos="374760"/>
                <a:tab algn="l" pos="822240"/>
                <a:tab algn="l" pos="1271520"/>
                <a:tab algn="l" pos="1720800"/>
                <a:tab algn="l" pos="2170080"/>
                <a:tab algn="l" pos="2619360"/>
                <a:tab algn="l" pos="3068640"/>
                <a:tab algn="l" pos="3517920"/>
                <a:tab algn="l" pos="3967200"/>
                <a:tab algn="l" pos="4416480"/>
                <a:tab algn="l" pos="4865760"/>
                <a:tab algn="l" pos="5315040"/>
                <a:tab algn="l" pos="5764320"/>
                <a:tab algn="l" pos="6213600"/>
                <a:tab algn="l" pos="6662880"/>
                <a:tab algn="l" pos="7112160"/>
                <a:tab algn="l" pos="7561440"/>
                <a:tab algn="l" pos="8010360"/>
                <a:tab algn="l" pos="8459640"/>
                <a:tab algn="l" pos="8908920"/>
                <a:tab algn="l" pos="9358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otal SA2 cost lowered from 7.8 M€ to 4.6 M€ (+Sardinia/Urumqi). EC contribution is 0.82 M€ (0.72 M€ spending “secured”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29052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Bitstream Vera Sans"/>
              <a:buChar char="•"/>
              <a:tabLst>
                <a:tab algn="l" pos="374760"/>
                <a:tab algn="l" pos="822240"/>
                <a:tab algn="l" pos="1271520"/>
                <a:tab algn="l" pos="1720800"/>
                <a:tab algn="l" pos="2170080"/>
                <a:tab algn="l" pos="2619360"/>
                <a:tab algn="l" pos="3068640"/>
                <a:tab algn="l" pos="3517920"/>
                <a:tab algn="l" pos="3967200"/>
                <a:tab algn="l" pos="4416480"/>
                <a:tab algn="l" pos="4865760"/>
                <a:tab algn="l" pos="5315040"/>
                <a:tab algn="l" pos="5764320"/>
                <a:tab algn="l" pos="6213600"/>
                <a:tab algn="l" pos="6662880"/>
                <a:tab algn="l" pos="7112160"/>
                <a:tab algn="l" pos="7561440"/>
                <a:tab algn="l" pos="8010360"/>
                <a:tab algn="l" pos="8459640"/>
                <a:tab algn="l" pos="8908920"/>
                <a:tab algn="l" pos="9358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elocation of EC grant from low spending partners (HRAO, INAF?, NCU, OSO) to other (MPIfR, VIRAC?, CNIG-IGN, CSIRO, TIGO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29052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Bitstream Vera Sans"/>
              <a:buChar char="•"/>
              <a:tabLst>
                <a:tab algn="l" pos="374760"/>
                <a:tab algn="l" pos="822240"/>
                <a:tab algn="l" pos="1271520"/>
                <a:tab algn="l" pos="1720800"/>
                <a:tab algn="l" pos="2170080"/>
                <a:tab algn="l" pos="2619360"/>
                <a:tab algn="l" pos="3068640"/>
                <a:tab algn="l" pos="3517920"/>
                <a:tab algn="l" pos="3967200"/>
                <a:tab algn="l" pos="4416480"/>
                <a:tab algn="l" pos="4865760"/>
                <a:tab algn="l" pos="5315040"/>
                <a:tab algn="l" pos="5764320"/>
                <a:tab algn="l" pos="6213600"/>
                <a:tab algn="l" pos="6662880"/>
                <a:tab algn="l" pos="7112160"/>
                <a:tab algn="l" pos="7561440"/>
                <a:tab algn="l" pos="8010360"/>
                <a:tab algn="l" pos="8459640"/>
                <a:tab algn="l" pos="8908920"/>
                <a:tab algn="l" pos="9358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ARNET &amp; SurfNet may justify larger sp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29052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Bitstream Vera Sans"/>
              <a:buChar char="•"/>
              <a:tabLst>
                <a:tab algn="l" pos="374760"/>
                <a:tab algn="l" pos="822240"/>
                <a:tab algn="l" pos="1271520"/>
                <a:tab algn="l" pos="1720800"/>
                <a:tab algn="l" pos="2170080"/>
                <a:tab algn="l" pos="2619360"/>
                <a:tab algn="l" pos="3068640"/>
                <a:tab algn="l" pos="3517920"/>
                <a:tab algn="l" pos="3967200"/>
                <a:tab algn="l" pos="4416480"/>
                <a:tab algn="l" pos="4865760"/>
                <a:tab algn="l" pos="5315040"/>
                <a:tab algn="l" pos="5764320"/>
                <a:tab algn="l" pos="6213600"/>
                <a:tab algn="l" pos="6662880"/>
                <a:tab algn="l" pos="7112160"/>
                <a:tab algn="l" pos="7561440"/>
                <a:tab algn="l" pos="8010360"/>
                <a:tab algn="l" pos="8459640"/>
                <a:tab algn="l" pos="8908920"/>
                <a:tab algn="l" pos="9358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seful to extend SA2 (1 year?) to justify larger spending and allow connection of new telescopes (Sardinia, Urumqi, VIRA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290520">
              <a:lnSpc>
                <a:spcPct val="98000"/>
              </a:lnSpc>
              <a:spcAft>
                <a:spcPts val="1287"/>
              </a:spcAft>
              <a:tabLst>
                <a:tab algn="l" pos="0"/>
                <a:tab algn="l" pos="374760"/>
                <a:tab algn="l" pos="822240"/>
                <a:tab algn="l" pos="1271520"/>
                <a:tab algn="l" pos="1720800"/>
                <a:tab algn="l" pos="2170080"/>
                <a:tab algn="l" pos="2619360"/>
                <a:tab algn="l" pos="3068640"/>
                <a:tab algn="l" pos="3517920"/>
                <a:tab algn="l" pos="3967200"/>
                <a:tab algn="l" pos="4416480"/>
                <a:tab algn="l" pos="4865760"/>
                <a:tab algn="l" pos="5315040"/>
                <a:tab algn="l" pos="5764320"/>
                <a:tab algn="l" pos="6213600"/>
                <a:tab algn="l" pos="6662880"/>
                <a:tab algn="l" pos="7112160"/>
                <a:tab algn="l" pos="7561440"/>
                <a:tab algn="l" pos="8010360"/>
                <a:tab algn="l" pos="8459640"/>
                <a:tab algn="l" pos="8908920"/>
                <a:tab algn="l" pos="9358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SA2: Network Provisioning for a Global e-VLBI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Board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9625-396F-48C4-AABF-A7F338D48C6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uary 3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436320"/>
            <a:ext cx="8234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- Looking Down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4627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57200" y="57913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Paul Boven and Google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SA2: Network Provisioning for a Global e-VLBI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Board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08CF-F357-4C8C-8E07-692C9C09315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uary 3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SA2- Network Provisioning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95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2120" indent="-2221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 partner institutions, operating 21 radiotelesco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ination of work and funding at participant national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 partial funding (8.75:1 in proposal) acts as a great catalyst of work and national fu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100000"/>
              </a:lnSpc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pack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7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1: Feasibility study of last-mile connection of telescopes to JIVE via GÉ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7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2: Provision of the infrastructure and 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7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3: Connectivity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97000"/>
              </a:lnSpc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SA2: Network Provisioning for a Global e-VLBI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Board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136B-A8F4-4CCC-87E1-08CFEF4E43E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uary 30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SA2- Network Provisioning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496360" cy="50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2120" indent="-222120">
              <a:lnSpc>
                <a:spcPct val="97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1+3 telescopes conn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97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outine (“production”) operations at 512 Mbps @ 6 telesco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n-constant costs in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97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y participants are able to obtain better deals for cheaper/free conne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9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97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liverables are achieved but spending is l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7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dget =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7.8 M€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820 k€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o be financed by E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7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R1 = 2 M€ spent (127 k€ claimed to E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7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R2* = expect around 2,2 M€ (373 k€ will be claimed to E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7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R3* = expected 347 k€ (248 k€ will be claim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7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TAL expense* =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4.6 M€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to be claimed 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750 k€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9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9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*Not including AARNET/Surf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97000"/>
              </a:lnSpc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SA2: Network Provisioning for a Global e-VLBI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Board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83DD-70B6-4609-B9D6-04B07E11678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uary 30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Site Connectivity 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SA2: Network Provisioning for a Global e-VLBI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7775280" cy="493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Board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F26E-1184-4416-A57E-662A4EB68E6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uary 30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onnectivity statu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SA2: Network Provisioning for a Global e-VLBI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5473440" cy="5398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Board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E655-CA79-4763-9BDA-FC752D606DA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uary 30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Deliverabl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SA2: Network Provisioning for a Global e-VLBI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569080" cy="401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Board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49BE-B963-4DEE-87EE-CD2F39B7F02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uary 30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3920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 SA2 Achievement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2120" indent="-22212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outine operations achieved up to 512 Mb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97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 Gbps achieved with 5 stations in January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9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9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JIVE/Surf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8 x 1 Gbps lines available (+ 1 x 5 Gbps). JIVE cost declared by SurfN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9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9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AARNET/CSI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SIRO telescopes connected at 1 Gbps, and tests perform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9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9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AST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SRT connected at 1 Gbps. No costs declared to EXP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CNIG-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ast-mile connection expected in May 2008. Low spending till n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SA2: Network Provisioning for a Global e-VLBI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Board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FBA8-175B-421A-A490-EDBF9B829FB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uary 30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3920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 SA2 Achievement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2120" indent="0">
              <a:lnSpc>
                <a:spcPct val="9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5)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HRA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cal 1 Gbps link in place. International connection diffic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 spending till now (10 k€ EC gra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9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9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6)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edicina connected; pending new fiber rou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ardinia expects to connect in 2009, in time for EXP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w spending (expected total 81 k€ - EC may finance up to 110 k€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9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9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7)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MPI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ffelsberg connected, and first tests performed successful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ery good spending profile – provided declaration of MPG cost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8)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M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nected at 10 Gb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w cost but good spending prof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SA2: Network Provisioning for a Global e-VLBI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Board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1223-5D45-4072-A6E9-8F0688E75B1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uary 30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08-01-30T10:09:20Z</dcterms:modified>
  <cp:revision>20</cp:revision>
  <dc:subject/>
  <dc:title>Slide 1</dc:title>
</cp:coreProperties>
</file>